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B4B-D171-4194-9C14-C9F2A5C2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77-2AFC-44A1-864E-9AD0171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7F9-E5DF-40EC-A6ED-CBD3B1D6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2FA-0A01-4848-8A6E-60A6EC6D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573-F0B4-49F0-814D-2B4C5960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ED58-E265-451E-B83B-423F3D1E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E218-C153-4D88-9068-9006B97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8511-F574-4912-BB41-45CC277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A03-B894-47E1-A4E9-846CFADB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4A9-0B22-4804-808B-BCA5D5C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221-E9B6-445F-9B72-8D067C6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F11-63FD-4455-845F-EE63988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BCD7-791D-42C1-BABE-CF63979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4DA-8E12-4CED-A304-433C891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7D81-78AA-48CC-A2E7-1250CAA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36A0-1698-438A-AB3A-F36C27F1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9A2B-DC69-4FC6-9ACE-274E6101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A7-CEF9-45F2-BCB2-CDE75B68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C27-69A6-486B-9ED2-C0EC206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79C-7325-4095-BE2A-858F7F9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FCE-979D-456A-9974-3286F7E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623-0808-41A7-9220-3C75393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863-0DDE-4780-8665-54A725F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193-6036-4DF1-A0DD-739F394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0F7F-336E-4C55-BEBF-AE4BDC4EF17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276-6E37-46DD-8759-0A33B4AD1F66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XT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10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terior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tal 2/3 of pectineal 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½ of medial lip of 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ubis just below its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iddle 1/3 of medial lip of 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supracondylar 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– Hip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6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½ 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argin of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surface of proximal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&amp; 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1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B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BD, 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22T14:21:50Z</dcterms:modified>
  <cp:revision>16</cp:revision>
  <dc:subject/>
  <dc:title>Hip Muscles</dc:title>
</cp:coreProperties>
</file>